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532B-6157-48C0-94DB-922A48920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955C-5EA8-40E4-AD3A-59F2DD879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7CE8-4DB2-421E-A19E-8FA1D85BB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788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8996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FC16-DD06-4D52-9400-10AB0625B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7C2D-4019-425F-BF73-B008EA8015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5FFE-C912-4FE9-9018-F61881900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734C-3976-4389-98A8-7E8584335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440E-26E7-4CAC-A2B8-7A31F6513A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A4D6-BB7C-49DF-B582-4ECFACED82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6870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48AF-DA41-4BA9-9029-2D41F2BD4C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8AC6-6A19-4EFD-9BF7-B01AA31FD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0817-E168-4914-A828-DA9F86C68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3CA6-F645-4469-A0BC-1732D570E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0DD8-9FC3-46B4-A054-25FB7906EB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0ADB-B966-4221-91A6-E2A958207B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B1E2-1A6F-4AE5-BDC0-1CB57D6CF6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788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8996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8030-5D1A-4AB6-9A1C-B19D33657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6CC6-C5F5-483A-8C87-A16A14C76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8867-26AF-4106-9413-DAE561CA9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F213-C14A-4B50-AEAD-55DAFA49A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6870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198C-FA9E-42E6-AE3C-8434D9DF5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290A-8C80-4891-883A-1BEE95E7D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3D95-C7E2-4DAF-B298-2B44969A7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0D09-7B4E-4028-89D1-3AB16809B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303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5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1200" y="6248520"/>
            <a:ext cx="303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FB9-6F02-4B29-B008-F895520C6E6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303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5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51680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752A-D98D-43E9-ABB5-BCAF63B822A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0" name="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4" name="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7706160" y="4231800"/>
            <a:ext cx="1163520" cy="1324080"/>
            <a:chOff x="7706160" y="4231800"/>
            <a:chExt cx="1163520" cy="1324080"/>
          </a:xfrm>
        </p:grpSpPr>
        <p:sp>
          <p:nvSpPr>
            <p:cNvPr id="90" name=""/>
            <p:cNvSpPr/>
            <p:nvPr/>
          </p:nvSpPr>
          <p:spPr>
            <a:xfrm rot="7320000">
              <a:off x="7791840" y="4655160"/>
              <a:ext cx="99396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 rot="7320000">
              <a:off x="7767720" y="4634640"/>
              <a:ext cx="990720" cy="4618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 rot="7320000">
              <a:off x="7930080" y="4620600"/>
              <a:ext cx="66024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706160" y="4231800"/>
              <a:ext cx="1163520" cy="1324080"/>
              <a:chOff x="7706160" y="4231800"/>
              <a:chExt cx="1163520" cy="1324080"/>
            </a:xfrm>
          </p:grpSpPr>
          <p:sp>
            <p:nvSpPr>
              <p:cNvPr id="94" name=""/>
              <p:cNvSpPr/>
              <p:nvPr/>
            </p:nvSpPr>
            <p:spPr>
              <a:xfrm rot="7320000">
                <a:off x="7808040" y="5065920"/>
                <a:ext cx="1026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7710120" y="4568760"/>
                <a:ext cx="1155240" cy="65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038080" y="4708440"/>
                <a:ext cx="821160" cy="37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7320000">
                <a:off x="8595720" y="4503240"/>
                <a:ext cx="10944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7320000">
                <a:off x="8143560" y="4726800"/>
                <a:ext cx="33624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901800" y="5054760"/>
            <a:ext cx="6807240" cy="723600"/>
          </a:xfrm>
          <a:custGeom>
            <a:avLst/>
            <a:gdLst/>
            <a:ahLst/>
            <a:rect l="l" t="t" r="r" b="b"/>
            <a:pathLst>
              <a:path w="21600" h="21460">
                <a:moveTo>
                  <a:pt x="0" y="0"/>
                </a:moveTo>
                <a:cubicBezTo>
                  <a:pt x="685" y="2024"/>
                  <a:pt x="2801" y="10918"/>
                  <a:pt x="4110" y="12047"/>
                </a:cubicBezTo>
                <a:cubicBezTo>
                  <a:pt x="5420" y="13176"/>
                  <a:pt x="6987" y="5835"/>
                  <a:pt x="7858" y="6776"/>
                </a:cubicBezTo>
                <a:cubicBezTo>
                  <a:pt x="8730" y="7718"/>
                  <a:pt x="8689" y="17647"/>
                  <a:pt x="9349" y="17694"/>
                </a:cubicBezTo>
                <a:cubicBezTo>
                  <a:pt x="10009" y="17741"/>
                  <a:pt x="10397" y="6541"/>
                  <a:pt x="11807" y="7153"/>
                </a:cubicBezTo>
                <a:cubicBezTo>
                  <a:pt x="13218" y="7765"/>
                  <a:pt x="16180" y="21600"/>
                  <a:pt x="17812" y="21459"/>
                </a:cubicBezTo>
                <a:cubicBezTo>
                  <a:pt x="19444" y="21318"/>
                  <a:pt x="20980" y="8847"/>
                  <a:pt x="21600" y="6400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76640" y="1952640"/>
            <a:ext cx="889200" cy="357120"/>
          </a:xfrm>
          <a:custGeom>
            <a:avLst/>
            <a:gdLst/>
            <a:ahLst/>
            <a:rect l="l" t="t" r="r" b="b"/>
            <a:pathLst>
              <a:path w="21600" h="20274">
                <a:moveTo>
                  <a:pt x="0" y="2880"/>
                </a:moveTo>
                <a:cubicBezTo>
                  <a:pt x="3934" y="8010"/>
                  <a:pt x="7907" y="13230"/>
                  <a:pt x="10800" y="12960"/>
                </a:cubicBezTo>
                <a:cubicBezTo>
                  <a:pt x="13693" y="12690"/>
                  <a:pt x="15467" y="0"/>
                  <a:pt x="17280" y="1440"/>
                </a:cubicBezTo>
                <a:cubicBezTo>
                  <a:pt x="19093" y="2880"/>
                  <a:pt x="20867" y="18090"/>
                  <a:pt x="21600" y="2160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21" dir="2021404" blurRad="0" rotWithShape="0">
              <a:srgbClr val="ffb800">
                <a:alpha val="75000"/>
              </a:srgbClr>
            </a:outerShdw>
          </a:effectLst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active Note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4038480"/>
            <a:ext cx="6032520" cy="28195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9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Key to Succes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9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Social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52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52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52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53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rcRect l="19374" t="13322" r="5101" b="8322"/>
          <a:stretch/>
        </p:blipFill>
        <p:spPr>
          <a:xfrm>
            <a:off x="685800" y="18288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rcRect l="11663" t="8786" r="4232" b="7014"/>
          <a:stretch/>
        </p:blipFill>
        <p:spPr>
          <a:xfrm>
            <a:off x="3352680" y="1828800"/>
            <a:ext cx="2173320" cy="28954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rcRect l="17766" t="11111" r="5315" b="15541"/>
          <a:stretch/>
        </p:blipFill>
        <p:spPr>
          <a:xfrm>
            <a:off x="5943600" y="1828800"/>
            <a:ext cx="22813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7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57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57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57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58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8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ro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rcRect l="16929" t="0" r="6918" b="10224"/>
          <a:stretch/>
        </p:blipFill>
        <p:spPr>
          <a:xfrm>
            <a:off x="304920" y="182880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rcRect l="15207" t="5722" r="1033" b="14286"/>
          <a:stretch/>
        </p:blipFill>
        <p:spPr>
          <a:xfrm>
            <a:off x="3124080" y="1828800"/>
            <a:ext cx="2814840" cy="35812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rcRect l="9203" t="6903" r="17323" b="13806"/>
          <a:stretch/>
        </p:blipFill>
        <p:spPr>
          <a:xfrm>
            <a:off x="6172200" y="1828800"/>
            <a:ext cx="24908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2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62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62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62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63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ic S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rcRect l="7530" t="0" r="9450" b="9498"/>
          <a:stretch/>
        </p:blipFill>
        <p:spPr>
          <a:xfrm>
            <a:off x="152280" y="1066680"/>
            <a:ext cx="373392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rcRect l="8711" t="4356" r="0" b="8712"/>
          <a:stretch/>
        </p:blipFill>
        <p:spPr>
          <a:xfrm>
            <a:off x="266688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rcRect l="11718" t="0" r="10168" b="16708"/>
          <a:stretch/>
        </p:blipFill>
        <p:spPr>
          <a:xfrm>
            <a:off x="4648320" y="106668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4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7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67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67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67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68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6681" t="5906" r="8896" b="23081"/>
          <a:stretch/>
        </p:blipFill>
        <p:spPr>
          <a:xfrm>
            <a:off x="457200" y="1676520"/>
            <a:ext cx="3733920" cy="32004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rcRect l="12145" t="13583" r="14950" b="18652"/>
          <a:stretch/>
        </p:blipFill>
        <p:spPr>
          <a:xfrm>
            <a:off x="4495680" y="1752480"/>
            <a:ext cx="38102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96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22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723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726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727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729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ht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ight side belongs to me and should only contain teacher directed guided notes or handouts.  Nothing else should be placed on this page!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11304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5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71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772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775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776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778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Right Side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Gui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BQ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25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94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20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821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824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825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827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35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Mater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ject Noteboo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cil--NO mechanical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ed pencils and/or cray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lue sticks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4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6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86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87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87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87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8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ing the Interactive Note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o ripped out pages or torn co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No doodling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that doesn’t relate to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tebook should only be used in Social Studies.  (No other classes!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dc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c000"/>
                </a:solidFill>
                <a:latin typeface="Comic Sans MS"/>
              </a:rPr>
              <a:t>This is YOUR journal, it will be a direct reflection of who YOU ar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c000"/>
                </a:solidFill>
                <a:latin typeface="Comic Sans MS"/>
              </a:rPr>
              <a:t>TAKE OWNERSHI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13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13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14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you ever heard yourself say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-1440" y="1523880"/>
            <a:ext cx="41907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Black"/>
              </a:rPr>
              <a:t>I can't find my . . .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Black"/>
              </a:rPr>
              <a:t>notes, homework, old quizzes . . 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605960" y="5562720"/>
            <a:ext cx="732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Impact"/>
                <a:ea typeface="Impact"/>
              </a:rPr>
              <a:t>I was absent last week, did I miss anyth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74240" y="1981080"/>
            <a:ext cx="3721680" cy="85356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I can't remember wha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we did in class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498480" y="3352680"/>
            <a:ext cx="2091240" cy="1220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I'm sure its in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locker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book bag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room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8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185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188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189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191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t together with you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415960" y="2057400"/>
            <a:ext cx="4104360" cy="192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a603ab"/>
                </a:solidFill>
                <a:latin typeface="Arial Black"/>
                <a:ea typeface="Arial Black"/>
              </a:rPr>
              <a:t>Interactive</a:t>
            </a:r>
            <a:endParaRPr b="0" lang="en-US" sz="63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a603ab"/>
                </a:solidFill>
                <a:latin typeface="Arial Black"/>
                <a:ea typeface="Arial Black"/>
              </a:rPr>
              <a:t>Notebook</a:t>
            </a:r>
            <a:endParaRPr b="0" lang="en-US" sz="6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6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233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236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237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239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Interactive Notebook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alized 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orking portfolio – all of your notes, classwork, quizzes – in one convenient spo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4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281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284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285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287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ft Side – Right Side Ori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ft side is “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you.  This is the side that you can use to reflect information from the right 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ight side is “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stri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teacher guided notes and handouts.  Nothing else should be placed on the Right side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32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33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33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33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ft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ft side belongs to you.  It contains your warm-up (question mark) and the day’s activity (light bulb).  On this page you may include diagrams, cartoons, drawings, poems, foldables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85068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37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38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38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38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Left Side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m-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pi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881520" y="2057400"/>
            <a:ext cx="4076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01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27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428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431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432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434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ertis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3921" b="5883"/>
          <a:stretch/>
        </p:blipFill>
        <p:spPr>
          <a:xfrm>
            <a:off x="1447920" y="165096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49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75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476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479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480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482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lustrated Out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5767" t="1921" r="3844" b="2926"/>
          <a:stretch/>
        </p:blipFill>
        <p:spPr>
          <a:xfrm>
            <a:off x="914400" y="176544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linda L. Gannon</dc:creator>
  <dc:description/>
  <dc:language>en-US</dc:language>
  <cp:lastModifiedBy/>
  <cp:revision>0</cp:revision>
  <dc:subject/>
  <dc:title>Interactive Notebook</dc:title>
</cp:coreProperties>
</file>